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64A-DA47-48EE-8BA8-5E44DEDC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A90-311F-48C7-8B0B-C41F359E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79A-1418-4F37-9C48-6F95DE72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823-C6E9-47FF-8B90-15C74D65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652-F343-4C47-820C-9CAD1F89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AD9-2EDC-4012-9FB2-D8BD659D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B88-8BCE-4D3D-A33C-B799C9C5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BE8-8B20-4B95-B9F0-B74F6F2C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4AD-6CD1-481C-9293-7954697B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71C-F770-4318-836D-5CFEEA13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C87-A958-4412-8D54-C7987032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D95-31CF-42DF-AF2C-2F0236DA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A41B-E188-4ACD-9F8E-4D1512DA1A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130120"/>
            <a:ext cx="88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СА ЕПИДЕМИОЛОГИЈ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38862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ТРЕЋА </a:t>
            </a: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И ЧЕТВРТА </a:t>
            </a: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НЕДЕЉ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Централ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упљ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з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овног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говин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оститељ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с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с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фер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ир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плић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уже потреб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ли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нитар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игије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емиј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ханич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чишћав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улис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мператур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латив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лаж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ијациј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ук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еро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тиче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енерацију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д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аз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јат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сихичко ст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ове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стет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исл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авез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 саобраћајниц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лекс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ал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т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пон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уналн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ас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643040"/>
            <a:ext cx="84643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унча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пис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ијентисан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истему водоснабдева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даљ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дје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ш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бод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м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ћ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нтитатив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ступље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клађив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цифичност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крет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рис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итељ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дициј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нденциј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стан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гур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товрем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огућ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ногих друг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овеков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олош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цијал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ном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ли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ж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хитектонс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онал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истич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из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ступност садрж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оденев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лош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фо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временом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бита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орбогени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фактор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астанак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ређивањ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ро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лерги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лач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об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ледећ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суств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разновр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рбани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исо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утомобил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потреб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штетн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одржив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рађевинск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иза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ржа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онструкциј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елик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трошњ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м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зависн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љашњих парамета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ор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еј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о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стема пости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говарају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мперату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лажност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ија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а свеже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им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рши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илтрациј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родн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механ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вед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мал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жег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аз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нутрашњ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згра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мулира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 узро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ш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стано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ћ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ључу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ве акци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иминац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ола извор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постављањ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еђа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чишћавањева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НАСЕЉ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Осветљавањ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тамбених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осториј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и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безбеђу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мфорни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валитетније освјетље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штачк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к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с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ог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ењ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ош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њом повезан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шков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јектова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стем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ветљењ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бегавају 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комерн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ја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нтрас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ште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2356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ОДА ЗА ПИ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57200" y="2822400"/>
            <a:ext cx="7924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стабилан хемијски спој  водоника и кисео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и чиста вода (десатилована вода)  при притиску од 1 атмосфере  има тачку мржњења од 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, тачку кључања од 10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, а највеће густине је на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57200" y="9907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ФИНИЦИЈА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95280" y="189000"/>
            <a:ext cx="8153280" cy="61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Земљи има 1,5 милијарди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оде. Од те количине 97, 3% је слана вода, а само 2,7% слатка. Од укупне количине слатке воде 77,2% је у вечитом леду на половима и у планинским глечер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 укупне количине расположиве слатке воде 22,4% су подземне воде, а 0,36% површинске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 коришћење је на располагању 1% укупне количине воде на Земљ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2209680"/>
            <a:ext cx="6095880" cy="43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ГИЈЕН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ПИДЕМИ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572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57200" y="792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1828800" y="3086280"/>
          <a:ext cx="5486400" cy="66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86280"/>
                    <a:ext cx="5486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4"/>
          <p:cNvSpPr/>
          <p:nvPr/>
        </p:nvSpPr>
        <p:spPr>
          <a:xfrm>
            <a:off x="-76320" y="1828800"/>
            <a:ext cx="899172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један од основних услова жи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% организма одраслог човека чини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поред воде у организму ч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лас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% од телесне теж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Лит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кстрацел.  интраваск. плаз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4-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рстицијална ткивна теч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12-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рацелуларна ткивна теч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40-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Целокупна течност организм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70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792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1981080"/>
            <a:ext cx="79250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ржава хидростатски, онкотски и осмотски притис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могућава обављање биохемијских процеса и уклањање штетних супстанција из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нормалном функционисању здравог организма одржава се стални биланс воде у њ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404640"/>
            <a:ext cx="8382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ланс воде у здравом организ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по Pillenu и Rushmaer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ношењe вoд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авање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блик       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количина(ml 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пут              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личина (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љ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a течност              12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лућ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a                                  1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К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oда oксидације                  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Ур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eц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упно                        26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Укупн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792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80880" y="1828800"/>
            <a:ext cx="8229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неопходна намирница за сва жива би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е потребе у води за пић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ео и годишње доб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Потребе у  во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/д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мерена клим. подр. (30-40 ml/kg ТМ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арки предел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усти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-1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т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24000" y="1341360"/>
            <a:ext cx="8381880" cy="54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 воде човек може да издржи само неколико д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ледице губитк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штеће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Дневни губитак у литр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етна дехидрациј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5 литара (2% ТМ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 дехидр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2 литра (6% Т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мр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-11 литара (15% Т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ст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лног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временог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рав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а производ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друг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л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имо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ос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ра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57200" y="7621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57200" y="2268360"/>
            <a:ext cx="83818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омогућава одржавање сталне телесне температуре због високог топлотног капацитета (4 пута већи од ваздух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авање топлоте испаравањем (знојењем) је једини терморегулациони механизам који функционише када сви други откажу (зрачење, кондукција, конвекциј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7200" y="6094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57200" y="2986200"/>
            <a:ext cx="81532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 води се под утицајем Сунчеве енергије и растворених неорганских материја ствара жива материја која кружи у ланцу исхране (фитопланктон, па зоопланктон, па виши водени организми и т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57200" y="2589120"/>
            <a:ext cx="83059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 води је могућ живот, развој, размножавање и опстанак различитих биолошких и хемијских чинилаца који могу да утичу на здрављ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ом се могу пренети бактерије, вируси и параз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57200" y="1957320"/>
            <a:ext cx="81532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Бактер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е се могу пренети водом и доводе до оштећења здравља су: E. coli, Proteus, Streptococcus faecalis, Bacilus dysenteriae, Salmonella typhi, Salmonella paratyphi A i B, Shigellae, Vibrio colerae, Pasteurella tularenssis i d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ужuна њиховoг oпстaнкa у води зa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б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лoшке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н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к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e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јe, Сунчeвe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тлости, количине органских материја, ф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зички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(npr. темпeра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) и хем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јск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х (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. pH) свој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вo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26920" y="333360"/>
            <a:ext cx="74678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ирус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и се могу пренети водом и доводе до оштећења здравља с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eno (31 seroti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ho (31 serot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xsaci A (23 serotip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xsaci B (6 serotip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io (3 seroti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o (3 serotip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pato (2 seroti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ytomegalo (1 sreot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57200" y="2489040"/>
            <a:ext cx="830592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ужина опстанка неких ентеровир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реди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 у данима 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чна вод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-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зерска вода и акумул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Загађена вод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еко 3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57200" y="2268360"/>
            <a:ext cx="8001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зи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и се могу пренети водом и доводе до оштећења здравља су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ntameba histoli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mblia intestinal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karis lumbriko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hocef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yuris vermicul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9640" y="1628640"/>
            <a:ext cx="716292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кроорганизми краће опстају 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гађеној во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вишој температу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јачем и дужем Сунчевом зраче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мањој количини органских мат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шћој промени физичких и хемијских својстав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3520" y="2543040"/>
            <a:ext cx="81532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подацима СЗО од болести  пренетих водом оболи око 500 милиона људи, а умре око 10 мили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цењује се да око 10% болничких кревета користе болесници оболели од болести пренети микробиолошки неисправном в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9640" y="1641600"/>
            <a:ext cx="777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аци о тачном броју оболелих због употребе физичко- хемијски неисправне воде не посто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може бити физичко-хемијски неисправна због повећано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нитр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и-метхемоглобинемија, магнезијум-дијареја, детерџенти-алергије, трухалометани, PAH, PCB-малигна обољења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ли смањено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јод-струма, флуор-зубни каријес, цалцијум и магнезијум. болести КВС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садржаја појединих показатељ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радом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дразумевамо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већ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ме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внин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ништв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већ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пољопривред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енств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времен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о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жа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глед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јама и велич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43000" y="6094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ВОДО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24000" y="1125360"/>
            <a:ext cx="84391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систем за снабдевање водом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који има најмање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но и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н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е,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, резервоар и водоводну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ВОДОВОДНА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систем цеви за одвод воде од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или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вање воде до резервоара и од резервоара до потро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 воде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(хидранти и вентили су саставни део водоводне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Делови су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главни вод (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од капта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е или у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авање воде до резервоара и резервоара до разводне м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разводна мре</a:t>
            </a:r>
            <a:r>
              <a:rPr b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а (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од главног вода до резервоара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4000" y="60948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Е И ПОЈАС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24000" y="2381400"/>
            <a:ext cx="843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бухватају простор који се утвр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ок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а за свабдевање водом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(бунари и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за хватање подземне воде, захват са 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ног тока и акумулације),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вање, резервоара и главног цевовода у циљу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те квалитета воде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од намерног или слу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ног заг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ња као и других 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етних утиц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Е И ПОЈАСЕВИ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24000" y="1881360"/>
            <a:ext cx="83628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Plain"/>
              </a:rPr>
              <a:t>Врсте зон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а непосред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 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строгог надзор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У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а зона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 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ограни</a:t>
            </a:r>
            <a:r>
              <a:rPr b="0" i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ењ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ра зона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надзор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Појас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684360" y="404640"/>
            <a:ext cx="761976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ритеријуми за одре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вање зона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врста изд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ности извор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врста обј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н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н захвата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санитарно-техн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о уре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ење 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онфигур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хидрогеоло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а и др. својства земљ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0" y="18900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НЕПОСРЕДНА зона санитарне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а, црпних станица, инсталација за поправку квалитета воде, резервоара и комора за прекид прит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безб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се огр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вањем (изузетак водоторњев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најмање 10 м од објекта код резервоара, црпних станица, инсталација за поправку воде, комора за прекид притиска и дубоко бу{ених бун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дозвољен приступ само запосленим лицима под здравственим надз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мо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се користити само као сенокос, али без употребе 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брива, пестицида и хербиц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611280" y="189000"/>
            <a:ext cx="7696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А зона санитарне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и повр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а земљ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 под санитарним надзором на којој није дозвољена изградња обје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бухвата целокупну повр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у депресионог левка или најмање 500 м око акумулације при нормалном усп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не огр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, а земљ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е се мо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е користити у пољопривредне сврхе уз огран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ење употребе 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брива, пестицида и хербиц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826920" y="404640"/>
            <a:ext cx="762012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РА зона санитарне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бухвата целу или део територије сливног подр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ја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 или територију која сл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 за напајање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забрањена је изградања индустријских и других објеката 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је отпадне воде и материје из техноло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ког процеса могу загадити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684360" y="404640"/>
            <a:ext cx="746748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Појас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споставља око главних цево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зноси најмање по 2,5 метара са сваке ст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 њему није дозвољена изградња објеката, постављање у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аја и обављање радњи које на било који н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 могу угрозити воду и стабилност цево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43000" y="685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ЗА ПИЋ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55640" y="1484280"/>
            <a:ext cx="708660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ЗА ПИЋЕ је метод пречишћавања воде којим се уклањају патогени и условно патогени микроорганизми. Њиме се не уклањају спорогени облици и цисте. Вируси се могу уклањати при довољно дугој изложености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143000" y="2009880"/>
            <a:ext cx="76201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ХАНИЗАМ ДЕ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клањање патогених и условно патогених микроорганизама је последица поремећаја колоидне равнотеже и/или равнотеже ферментног система дисања и/или метаболизма микро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ивот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 изградњ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сок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 њихових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езбедити одговарају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изич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ви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вља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питива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пулацијама насељ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но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ир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љопривредног земљиш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одговарајућ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обилаз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аб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му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395280" y="1197000"/>
            <a:ext cx="8064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ТОДЕ ДЕЗ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ХАНИЧКЕ МЕТО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ИЗИЧКЕ МЕТ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ЕМИЈСКЕ МЕТ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826920" y="260280"/>
            <a:ext cx="73152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ХАНИЧКЕ МЕТОДЕ 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јраспрострањенија механичка метода дезинфекције воде ј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илтрирањ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ЛТРИРАЊЕ се користи за дезинфекцију малих количина воде за пиће или као једна од етапа у преради великих количина воде за пић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јпознатији филтри су: Chamberland-ovi, Berkfefeld-ovi, а у новиј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eмe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ф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т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д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ластичних м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539640" y="404640"/>
            <a:ext cx="8136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КЕ МЕТОД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ке методе дезинфекције се обично користе за дезинфекцију малих количина воде за пић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мењује 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Топлот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вода кључа 10 минута, што је довољно да се коагулишу беланчевине бактериј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лтраљубичасти зрац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таласна дужина од 2000-2950 ангстрема разарају протоплазму микроорганизама. Уклањају бактерије и вирусе. Услов је бистра вода  која се у танком млазу пропушта преко површине лампе. На овај начин се најчешће дезинфикује минерална вода. Недостатак методе је одсуство одложеног дезинфекционог е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лтра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684360" y="549360"/>
            <a:ext cx="761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Е МЕТОДЕ 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е методе дезинфекције  воде обухватају примену хемијских супстан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се ретко дезинфикује кречом, персирћетном киселином, јодом, тешким металима (сребром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јчешће се хемијска дезинфекција воде обавља применом хлора и оз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684360" y="404640"/>
            <a:ext cx="76960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хл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 је жућкасто-зеленкасти гас који у контакту са водом ствара хипохлорасту киселину, хлороводоничну киселину и насцентни кисео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ханизам дејства није до краја расветљен, али се сматра да је бактерицидни ефекат последица реакције хипохлорасте киселине, хлороводоничне киселине и насцентног кисеоника са SH-ферментним системом дисања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ри-азо-фосфор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дехидрогеназ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лује на бактериј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атогене и условно патоге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и ентеровиру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1187280" y="260280"/>
            <a:ext cx="73152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олошких својстава микроорг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сте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могенизације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на контакта са в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еоролошких елем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мп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утно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држаја суспендованих и органских матер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900000" y="62064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о су микроорганизми савршенији то су отпорнији на дезинфекцију хлором. Грам-негативне бактериј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moneлла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су осетљивије од грам-позитивних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igela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јбољи бактерицидни ефекат показује хлор-диоксид, па хлор, гас, хлор течност, хипохлораста киселина, хлорни креч, хлорами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парат мора бити добро хомогенизован да би дезинфекција била успеш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900000" y="549360"/>
            <a:ext cx="754380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 контакта мора да је најмање 30 мин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нижим температурама је дезинфекција спорија, а и потребна је већа количина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нчево зрачење и ветар убрзавају дезинфекцију, али и исчезавање хлора из 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тимал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вредност за дезинфекцију је 6,2-6,5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и pH 7,2 дезинфекциони ефекат је 84%, а при pH 8 је 55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ећана мутноћа, присуство суспендованих и органских материја смањују ефекат дезинф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755640" y="476280"/>
            <a:ext cx="76960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тржишту број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фикасност зависи од садржаја активног хл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 гас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1 l воде на 1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 се раствара 9,5g. У водоводном систему да би дезинфекција била успешна пожељно је да буде температура 10-1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, притисак 3 at као би растворљивост била 4,0 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диокси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1 l воде на 2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се раствара 81 g. Оптимална концентрација за дезинфекцију подземне и пречишћене воде је 0,25-0,5 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324000" y="189000"/>
            <a:ext cx="85914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креч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меша у којој преовлађује хлор-хипохлорит који је нестабилно једињење. Када се правилно чува садржај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ктивног хлора је 30-35 %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У промету је концентрација од 20%. Препарат је јефтин, сигуран и широко се примењуј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похлорити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Хлор у њима је стабилно везан. Најпознатији препарати су капорит са 60-70% активног хлора, натријум-хипохлорит тј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Жавелова вода са 12-15% активног хл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амини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ргански препарати с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5-60% активног хл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Имају споро и продужено дејство које се манифестује релативно стабилном нивоом слободног резидуалног хлора по завршетку процеса хлорисања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ви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м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с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ити 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цел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обраћ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лн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684360" y="692280"/>
            <a:ext cx="754380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ХЛОРИС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БНО ХЛОР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НДАРДНО ХЛОР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ПЕРХЛОРИСАЊЕ СА ДЕХЛОРИС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АМИН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ИСАЊЕ НА 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ЧКИ ПРЕЛ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395280" y="333360"/>
            <a:ext cx="8497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ОЗО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зон 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ко дезинфекционо сре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сидише и разара органске у неорганске материје у води и побољшава у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која се дезинфикује озоном мора бити чиста и би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лавни недостатак методе је одсуство продуженог дезинфекционог утиц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Хигијена рада је превентивна медицинска грана у оквиру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ИГИЈЕНЕ 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која  на бази научних сазнања, практичних мера и поступака обезбеђује високу радну способност и спречава настанак професионалних обољења и других оштећења здравља везаних за радни проце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Она обухвата човека појединца  и  групе  радника  у  радном  процесу,  на радном месту и у амбијенту у коме се рад одвиј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2411280" y="620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ГИЈЕНА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ахваљујући развоју науке и технике у многим привредним гранама напоран физички рад је све мање заступљен, али се зато повећало психичко оптерећење радника и потреба за одређеним знањем и навикама, што  се  претходно  мора  обезбедити  школовањем радн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Да би одређене послове могао обављати успешно и безбедно, радник мора поседовати посебне психофизичке особине. Зато се у оквиру хигијене рада развијала професионална оријентација и селекција као превентивна гра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Када карактер рада и радна средина имају негативни утицај на здравље и радну способност запослених, то значе да постоје професионални штетни фактори у радној средини. Као професионално штетни фактори, поред физичких, хемијских и билошких, јављају се и  бројни  други  чиниоци  који  нарушавајући  конфор  у радном процесу, доводе до промене здравственог стања и радне способности. Ту спадају нерационална организација рада и одмора, неповољни психосоцијални односи у колективу, неадекватна исхрана, неповољна дужина радног време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У практичном делу хигијена рада решава питања санитарног надзора у производњи путем периодичне контроле и мерења услова рада и професионалних штетних фактора  у  фабрикама  и  другим  производним установама. Велики значај има и санитарни надзор над пројектовањем, изградњом и реконструкцијом производних објекат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д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Откривање,  идентификација  и  квантификација  физичких, хеми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ских и биолошких фактора у радној средини и њихова евалуациј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2. Евалуација других фактора услова рада и радне средине који делују на организам као стесор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3. Предлагање  мера  за  побољшавање  услова  рада  и смањивање ризика од настанка професионалних обољења и повреда на ра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4. Изучавање  и   предлагање   мера   за   обезбеђење физиолошких услова рада у току радног процеса  уз прилагођавање   техничких   система   и   технолог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људским могућностима (ергономија рада  и  радне средине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Екологија рада је оријентисана на подручје радне средине и обухва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1.    Процену биолошких захтева радног ме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2.    Препознавање и идентификацију штет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3.    Евалуацију и контро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физич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599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У агенсе физичке природе чије присуство у радној средини може штетно деловати на раднике спадај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Клима и микроклим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Повећан и снижен барометерски притиса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Осветљенос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Инф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лт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Вибрац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Не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Аерозагађење (Хемијски неактивна прашина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Механичка си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Електрична стру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300" spc="-1" strike="noStrike">
                <a:solidFill>
                  <a:srgbClr val="000000"/>
                </a:solidFill>
                <a:latin typeface="Calibri"/>
              </a:rPr>
              <a:t>Својим дејством у радној средини физички агенси могу   довести   до   повреда   на   раду   и   појаве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300" spc="-1" strike="noStrike">
                <a:solidFill>
                  <a:srgbClr val="000000"/>
                </a:solidFill>
                <a:latin typeface="Calibri"/>
              </a:rPr>
              <a:t>професионалних и других обољења везаних за рад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биолош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 агенсе биолошке природе чије присуство у радној средини може штетно деловати на раднике спадај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Вирус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Бактер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Гљив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Протозо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Хелмин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Артроподе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Ови микроорганизми или њихови фрагменти могу изазвати професионална обољења или обољења везана за рад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 односу на домаћина, биолошки агенси могу би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Патоген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могу довести до инфекције и обољењ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Опортунистичк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могу изазвати инфекцију и обољење само када је смањена отпорност домаћ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Апатогени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 Изазивају  само  колонизацију  која  не штети домаћи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хемијс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Дејство хемиских материја на организам запослених најчешће се среће у хемијској индустрији, рударству, машиноградњи, нафтној индустрији, гумарству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материје  које  унете  у  организам  у малим   количинама   изазивају   хемиске   и   физичко-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реакције  са  ткивом  називају  се  отров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Појам   отровности   је   релативан   јер   практично   св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материје  у  одређеним  условима  и  околно- стима могу бити от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У производном процесу отровност могу показивати  сировине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еђупродукти,  готови  производи  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отпадне матер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и агенси који штетно делују на раднике могу бити у чврстом, течном и гасовитом стању, а према пореклу могу бити органске и неорганске прир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3640" y="404640"/>
            <a:ext cx="85899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з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бром саобраћај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з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онис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иј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јеката неопходн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кључк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м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ан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ди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 аеро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ук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500" spc="-1" strike="noStrike">
                <a:solidFill>
                  <a:srgbClr val="000000"/>
                </a:solidFill>
                <a:latin typeface="Calibri"/>
              </a:rPr>
              <a:t>ФАКТОРИ ЖИВОТНЕ СРЕДИН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Животну средину карактерише и шест група фактор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актори  везани  за  физичку  активност  радника  (динамичку или статичку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актори   везани   за   менталну   активност   радни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(перцепција, одлучивање, деловање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хемијски    фактори    (нутрицијенси,   кисеоник,   вода, хемијске материје у радној средини и сл.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изчки фактори (звук, вибрације, клима, радијација и др.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биолошки фактори (бактерије, вируси, гљивице, животиње, биљке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социјални фактори (међуљудски односи, организа-ција рада, политички систем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Наведени фактори животне средине могу се класификовати и према биолошкој есенцијалности н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примарно биолошки есенцијални фактори - неопходни 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развој и очување здравља човека (нутрицијенси, физичка и ментална активност, социјални контакти, температура, влажност и сл.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примарно неесенцијални фактори - нису неопходни за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за развој и очување здравља чове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о (штетне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хемијске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материје,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козметика, дуван, алкохол, вибрације, јонизујуће зрачење и др.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Истовремено  присуство  различитих  фактора  радн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средине може да доведе до њихове међусобне интеракције, овде се првенствено мисли на интер-акцију физичких, хемијских и биолошких фактора радне средине (унутар исте или између различитих група). Интеракције с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могу одвијати у различитим медијумима, али су за медицину  рада  најзначајније интеракције које  се одвијају у ваздуху радне сред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теракције животне и радне сред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нтеракција  сунчеве  светлости,  микроорганизама, влажности и температуре ваздуха и пестицид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стовремено    присуство    сунчеве    светлости    и микроорганизама убрзава разградњу пестицида, као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 већа влажност и температура ваздух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Ваздушни притисак и температура ваздуха делују на садржај издувних гасова дизел мотира;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ри  сниженом атмосферском притиску концентрације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киселих органских једињења у  издувним гасовима дизел мотора су веће него ли при нормалном притиск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Настанак фотохемијског смога; У настанку смога учествују атмосферски кисеоник,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ултравиолетна радијација и азотни оксид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онашање гасова и пара зависи од температуре и притис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кривене штет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Скривене  штетности  се  не  користе  и  непроизводе намерно, већ се стварају и у атмосферу ослобађај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У случају акцидент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Представљају адитив или онечишћење у другим хемијским материја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Бензе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Фосфин и арси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Диокс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Приликом сагоревањ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Услед декомпози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неопходно познавање и интеракција и извора скривених штетности и опасно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Calibri"/>
              </a:rPr>
              <a:t>МАКСИМАЛНО ДОЗВОЉЕНЕ ДОЗЕ И КОНЦЕНТРАЦИЈЕ (МДК и МДД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Д и МДК су концентрације и дозе којима по досадашњим сазнањима, радници могу бити изложени 8 сати дневно, 5 дана недељно, током радног века, а да им здравље не буде угроже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К и МДД су обично 2-3 пута мање од концентрација и доза које изазивају хронично обоље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Овај индекс сигурности (коефицијент резерве) је неопходан због различите индивидуалне осетљивости организма. И поред тога осетљиви и хронично оболел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радници   могу   да   осете   одређене   тегобе   и   при концентрацијама и дозама нижим од МДК и МД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Посебне норме су израђене за физичке (јонизујућ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зрачење, разне прашине) и друге штетне аген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К и МДД за поједине штености су у неким земљама законски прописане и обавезујуће (европске земље укључујући и нас), док у другим прдстављају сам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необавезујуће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препоруке-С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тровност материје највише зависи од концен- трације и времена експозиције. У вези стим разликујемо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концетрационе отрове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чија отровност зависи претежно од концентрације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хроно-концентрационе отрове - чија отровност зависи од времена експозициј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а оцену отровности неке материје најзначајнија је њена концентрација у крви, мада због различите биолошке активности отрова, ресорбована доза не говори увек о стварној отровности неке материј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бог   тога   се   токсични   ефекат   неке   материј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изражав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смртност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експонованих организама или патолошке промене у организму кој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на изази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tre 1"/>
          <p:cNvSpPr/>
          <p:nvPr/>
        </p:nvSpPr>
        <p:spPr>
          <a:xfrm>
            <a:off x="46836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 има право на безбедност 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и здравље на раду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contenu 2"/>
          <p:cNvSpPr/>
          <p:nvPr/>
        </p:nvSpPr>
        <p:spPr>
          <a:xfrm>
            <a:off x="0" y="155736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посл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ченици и студенти на прак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стручном оспособљавањ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издржавању затворске казне која ту раде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добровољним и јавним радови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која се затекну у радној окол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упишу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 седам груп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ханичке опасности (које се појављују коришћењем опреме за ра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асности које се појављују у вези са карактеристикама радног ме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асности које се појављују коришћењем електричне енер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које настају или се појављују у процесу ра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које проистичу из психичких и психофизиолошких напо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везане за организацију ра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але штет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ОПАСНОСТИ И ШТЕ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838080" y="609480"/>
            <a:ext cx="7772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чита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и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ањ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веза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оце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рганизм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аста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тицаје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ео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зличит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фактор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дуг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брз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општ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напорн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д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комфор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сло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увежбано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истренирано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дсуст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ољ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нтере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ренирањ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б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з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болес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убјективн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адржај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им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анифесту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ормалн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рисн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следиц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вакодневних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активност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е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тањ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акон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д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счезав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ви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симптом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емор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осећај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умор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након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спавањ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ункцио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и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уз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јвећ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иториј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упиш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ич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о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нов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зив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п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тамбена јединиц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икрорејон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уперблок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нов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јед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уч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граниче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ца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у ч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ате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 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обраћај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град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г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гну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уж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јент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за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оља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ажа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о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дра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ло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род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21:20Z</dcterms:created>
  <dc:creator>Windows User</dc:creator>
  <dc:description/>
  <dc:language>en-US</dc:language>
  <cp:lastModifiedBy>nelad</cp:lastModifiedBy>
  <dcterms:modified xsi:type="dcterms:W3CDTF">2020-10-01T22:30:51Z</dcterms:modified>
  <cp:revision>15</cp:revision>
  <dc:subject/>
  <dc:title>ХИГИЈЕНА И ЕКОЛОГИЈА</dc:title>
</cp:coreProperties>
</file>